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509-A09E-4331-B2EE-8C932AFB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A3A-AA90-4A66-8A5E-D3AC5F48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E0C-9541-4460-BFCA-9F8633FC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5EE-FBA1-494E-AD92-44A56FD6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E327-8D8D-4A62-B5A9-8425E627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335-CA73-48C0-8A74-75026F0A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7445-DC90-4E58-8102-C548A58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5A9-FAF5-466F-AF43-41F47A6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C2AC-51DB-4FBC-AD4D-70FC7E28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75D6-5245-4A69-BBCF-1A858D6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A154-B25F-4DCF-9215-29337BD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B0D-ECD3-4F9C-9D5D-37D4937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1663-D00C-448C-BFC9-1382E6A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8A54-1221-43CF-BCC5-FEBF4FA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9E59-C9F5-4A3C-9D4E-1CC4D673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9E1-A6D3-4D36-B2C4-BF951825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72AA-739F-448A-8017-B79EE96C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D15-4579-4857-8669-BF0208C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C1C-FB42-44B4-9368-9A1547D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A71-72D7-438F-A0B5-3CBF7FC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53-1B87-4C6A-849E-CA08F39C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476-AEC0-4A1D-9C15-2B6AE75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029-6694-4EB7-A03B-BBD930C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D0E-C800-4790-BDF0-2A1D528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CF46-0495-4A79-B1EF-D698FBCE0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D3A-F28A-4C35-80F9-75392EF6E4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НЕМОТЕХНИ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дагог-психолог – Давыдова Е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БОУ гимназии №586 Василеостровского района СП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27446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МОТЕХНИКА (или мнемоника) – от греческого mnemonikon - искусство запоминания, означает совокупность приемов и способов, облегчающих запоминание и увеличивающих объем памяти путем образования искусственных ассоциаций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ЗАКОНЫ ЗАПОМИНАНИЯ"/>
          <p:cNvPicPr/>
          <p:nvPr/>
        </p:nvPicPr>
        <p:blipFill>
          <a:blip r:embed="rId1"/>
          <a:stretch/>
        </p:blipFill>
        <p:spPr>
          <a:xfrm>
            <a:off x="762120" y="593640"/>
            <a:ext cx="72388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914400" y="2457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учше запомнить материал к экзаменам, необходима постоянная тренировка памяти, хотя бы 20-25 минут в день. Продуктивность запоминания меняется в течение дня. Память наиболее цепкая и острая между 8 и 12 часами. Затем продуктивность запоминания начинает постепенно снижаться, а с 17 часов снова медленно растет и при отсутствии значительного утомления достигает высокого уровня в вечернее время (примерно к 19 часам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914400" y="308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значение для запоминания имеют наши чувства и эмоции. Старайтесь придавать запоминаемому материалу эмоциональную окраску, вызывая у себя определенные чувства.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емотехнические при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ссоциативные цепоч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од римской комнаты (метод Цицеро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ф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звуч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6:09:48Z</dcterms:created>
  <dc:creator>Администратор</dc:creator>
  <dc:description/>
  <dc:language>en-US</dc:language>
  <cp:lastModifiedBy>admin</cp:lastModifiedBy>
  <dcterms:modified xsi:type="dcterms:W3CDTF">2017-03-06T13:23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