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6.jpeg" ContentType="image/jpeg"/>
  <Override PartName="/ppt/media/image15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14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12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1ADB2-AE26-4137-9E92-BB2F3B3DB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0BAA3-BA31-4A0E-9358-B9394BCB8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F3BBC-CB0F-4AB4-836F-E92474396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21A79-C070-4B9E-B7E9-9760D22FE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63719-3D7F-434A-8EB9-1EB19EBE0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CB131-32A7-41B3-AC6B-F7DC360AE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51073-859D-4DD8-805E-ECA72D844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D74CA-E3FD-49FC-877E-63A3B1700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C30F8-147C-4019-B609-EA487BDBC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D08A2-5833-4863-9DAE-C6F766FE4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E29F0-0AF6-4ADE-B143-DE0F8F0BF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E5449-31E1-4153-B54C-619D8DE59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5C10F-27EC-4E58-8D2F-CA8F1F78EF8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362320"/>
            <a:ext cx="79246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окрастинация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1"/>
          <p:cNvSpPr/>
          <p:nvPr/>
        </p:nvSpPr>
        <p:spPr>
          <a:xfrm>
            <a:off x="4267080" y="3124080"/>
            <a:ext cx="350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выдова Е.В. – педагог-психолог ГБОУ гимназии №586 Василеостровского района СПб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едстоит трудный разговор с родителями учени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8077320" cy="47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TextBox 1" descr=""/>
          <p:cNvPicPr/>
          <p:nvPr/>
        </p:nvPicPr>
        <p:blipFill>
          <a:blip r:embed="rId1"/>
          <a:stretch/>
        </p:blipFill>
        <p:spPr>
          <a:xfrm>
            <a:off x="804960" y="1347840"/>
            <a:ext cx="7839000" cy="34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5" descr="6"/>
          <p:cNvPicPr/>
          <p:nvPr/>
        </p:nvPicPr>
        <p:blipFill>
          <a:blip r:embed="rId1"/>
          <a:stretch/>
        </p:blipFill>
        <p:spPr>
          <a:xfrm>
            <a:off x="457200" y="1066680"/>
            <a:ext cx="8534520" cy="54594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" descr="6"/>
          <p:cNvPicPr/>
          <p:nvPr/>
        </p:nvPicPr>
        <p:blipFill>
          <a:blip r:embed="rId2"/>
          <a:stretch/>
        </p:blipFill>
        <p:spPr>
          <a:xfrm>
            <a:off x="609480" y="1066680"/>
            <a:ext cx="8534520" cy="545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4"/>
          <p:cNvSpPr/>
          <p:nvPr/>
        </p:nvSpPr>
        <p:spPr>
          <a:xfrm>
            <a:off x="685800" y="1068120"/>
            <a:ext cx="7772400" cy="474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15 ПРИЕМОВ БОРЬБЫ С ПРОКРАСТИНАЦИЕЙ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  <a:ea typeface="Arial"/>
              </a:rPr>
              <a:t> 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Прием первый: сделать самое сложное сраз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Прием второй: устроить себе «второе утро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Прием третий: распилить задачи на маленькие кусоч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 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Прием четвертый: публичное обещ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Прием пятый: таймер на десять мину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Прием шестой: заблокировать отвлеч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Прием седьмой: сменить обстановк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 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Прием восьмой: думайте о том, что вы можете сдела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 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Прием девятый: создать ритуал начала рабо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Прием десятый: придерживаться двухминутного прави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 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Прием одиннадцатый: отдыхать регуляр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 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Прием двенадцатый: найти компани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 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Прием тринадцатый: простить себ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 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Прием четырнадцатый: устроить себе день продуктив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Прием пятнадцатый: напомнить себе, что это ваш выб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6" descr="1895685_1024x768"/>
          <p:cNvPicPr/>
          <p:nvPr/>
        </p:nvPicPr>
        <p:blipFill>
          <a:blip r:embed="rId1"/>
          <a:stretch/>
        </p:blipFill>
        <p:spPr>
          <a:xfrm>
            <a:off x="1428840" y="1566720"/>
            <a:ext cx="6286320" cy="372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IMG_0504"/>
          <p:cNvPicPr/>
          <p:nvPr/>
        </p:nvPicPr>
        <p:blipFill>
          <a:blip r:embed="rId1"/>
          <a:stretch/>
        </p:blipFill>
        <p:spPr>
          <a:xfrm>
            <a:off x="-452520" y="-247680"/>
            <a:ext cx="10049040" cy="735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6" descr="image"/>
          <p:cNvPicPr/>
          <p:nvPr/>
        </p:nvPicPr>
        <p:blipFill>
          <a:blip r:embed="rId1"/>
          <a:stretch/>
        </p:blipFill>
        <p:spPr>
          <a:xfrm>
            <a:off x="1219320" y="228600"/>
            <a:ext cx="6476760" cy="611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5" descr="cfec4464292e61f95168f530a390d942"/>
          <p:cNvPicPr/>
          <p:nvPr/>
        </p:nvPicPr>
        <p:blipFill>
          <a:blip r:embed="rId1"/>
          <a:stretch/>
        </p:blipFill>
        <p:spPr>
          <a:xfrm>
            <a:off x="304920" y="380880"/>
            <a:ext cx="8381880" cy="599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имер проявления прокрастина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Сказания об обыденности  Откладывание.mp4" descr=""/>
          <p:cNvPicPr/>
          <p:nvPr/>
        </p:nvPicPr>
        <p:blipFill>
          <a:blip r:embed="rId1"/>
          <a:stretch/>
        </p:blipFill>
        <p:spPr>
          <a:xfrm>
            <a:off x="1600200" y="1657440"/>
            <a:ext cx="5943600" cy="44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83174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8" nodeType="clickEffect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4"/>
          <p:cNvSpPr/>
          <p:nvPr/>
        </p:nvSpPr>
        <p:spPr>
          <a:xfrm>
            <a:off x="609480" y="1692360"/>
            <a:ext cx="7621560" cy="20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крастина́ц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(от англ. 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procrastination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— задержка, откладывание; от лат. 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procrastinatio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— с тем же значением, восходит к лат. 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cras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— завтра или лат. 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crastinus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— завтрашний, и лат 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pro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— для, ради)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 психологии склонность к постоянному откладыванию даже важных и срочных дел, приводящая к жизненным проблемам и болезненным психологическим эффекта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7" descr="Что происходит с нашим мозгом во время прокрастинации? - 3"/>
          <p:cNvPicPr/>
          <p:nvPr/>
        </p:nvPicPr>
        <p:blipFill>
          <a:blip r:embed="rId1"/>
          <a:stretch/>
        </p:blipFill>
        <p:spPr>
          <a:xfrm>
            <a:off x="990720" y="838080"/>
            <a:ext cx="7086600" cy="42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5" descr="56"/>
          <p:cNvPicPr/>
          <p:nvPr/>
        </p:nvPicPr>
        <p:blipFill>
          <a:blip r:embed="rId1"/>
          <a:stretch/>
        </p:blipFill>
        <p:spPr>
          <a:xfrm>
            <a:off x="228600" y="228600"/>
            <a:ext cx="868680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3"/>
          <p:cNvPicPr/>
          <p:nvPr/>
        </p:nvPicPr>
        <p:blipFill>
          <a:blip r:embed="rId1"/>
          <a:stretch/>
        </p:blipFill>
        <p:spPr>
          <a:xfrm>
            <a:off x="2190600" y="1447920"/>
            <a:ext cx="476280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оверка тетраде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6" descr="1456441681_uchitel-ustal"/>
          <p:cNvPicPr/>
          <p:nvPr/>
        </p:nvPicPr>
        <p:blipFill>
          <a:blip r:embed="rId1"/>
          <a:stretch/>
        </p:blipFill>
        <p:spPr>
          <a:xfrm>
            <a:off x="304920" y="1906560"/>
            <a:ext cx="84582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5" descr="1462501866-aleksa_thinkstockphotos-179039030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07672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аписание отчет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ыставление отмето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8" descr=""/>
          <p:cNvPicPr/>
          <p:nvPr/>
        </p:nvPicPr>
        <p:blipFill>
          <a:blip r:embed="rId1"/>
          <a:stretch/>
        </p:blipFill>
        <p:spPr>
          <a:xfrm>
            <a:off x="990720" y="1447920"/>
            <a:ext cx="7391160" cy="489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2-07T19:54:49Z</dcterms:created>
  <dc:creator>Администратор</dc:creator>
  <dc:description/>
  <dc:language>en-US</dc:language>
  <cp:lastModifiedBy>admin</cp:lastModifiedBy>
  <dcterms:modified xsi:type="dcterms:W3CDTF">2017-03-06T13:20:07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